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3035-5ADF-4C2B-A151-95B0CB6AF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B72B-88C7-4796-8C28-595F77B96C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8047-4307-4C24-911F-E0B96DB5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20E4-CAC5-45C3-98A3-BFCDA6A7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625-1CB3-4BA4-831A-E072888E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80B-837B-4B24-8568-C84647A1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2B2F-1FBA-46C8-8902-68E3D33E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6DF8-1DF3-4733-A280-598A236E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0EE2-629F-45A7-942B-AF07A6DF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7E4F-3148-4B3E-B39E-7D542883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A017-502E-4DFC-9299-0309B50C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6F01-569C-4F74-9E78-2BF043A8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FFD1-CD33-493C-A6D2-DB9966C9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4A5-8B4A-41E4-9A93-8FDEF0A7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A50B-9B7B-45E2-B4FE-E5479D7B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D2D4-9E55-4223-8F00-94151EAB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CDBA-7ECD-44EB-9379-3C23195F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8B84-E68D-4546-85F9-7C2C7267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6546-1839-4A4F-A11B-1CB6A5D2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102-23CD-4AE8-9E7E-74351395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70A-C445-420D-894E-4AC2803F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CA9-B627-4A3B-BFC2-C84DEE29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005-25C2-4598-A9E9-8B2B2BEE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0B7-2B81-4393-B2D5-84E5F5B5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8D0-B202-4255-AAEF-3E9A0BE9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AE4-A479-442A-AA0D-3737A609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B05F-F64D-45BA-8E14-FA0401C57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866B-36CB-4EBB-A4D5-EFBAC78BD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762120" y="1582560"/>
          <a:ext cx="7775280" cy="45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82560"/>
                    <a:ext cx="777528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914400" y="1752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ment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38280" y="15238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 , Energy, and Simple Machin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334120" y="16002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nses and Mirro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195800" y="175248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6858000" y="1600200"/>
            <a:ext cx="123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icity and Circui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Moment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3246120" y="2666880"/>
            <a:ext cx="26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∆t=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₂-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Moment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2057400" y="205740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Impulse- Momentum Theore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Work, Energy, and Simple Machi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2057400" y="2057400"/>
            <a:ext cx="533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perty to produce within the environme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Work, Energy, and Simple Machi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2753280" y="1981080"/>
            <a:ext cx="381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Work, Energy, and Simple Machin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838080" y="198108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ergy of an object resulting from motion-K= 1/2mv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Work, Energy, and Simple Machi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999440" y="2133720"/>
            <a:ext cx="569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Kinetic Energ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Work, Energy, and Simple Machin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16765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atio of resistance force to effort for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Work, Energy, and Simple Machin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1155960" y="2133720"/>
            <a:ext cx="747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echanical Advantag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Work, Energy, and Simple Machi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4"/>
          <p:cNvSpPr/>
          <p:nvPr/>
        </p:nvSpPr>
        <p:spPr>
          <a:xfrm>
            <a:off x="2362320" y="1981080"/>
            <a:ext cx="403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atio of output work to input wor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Work, Energy, and Simple Machin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2133720" y="206676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fficienc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Moment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209680" y="213372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tudy of inertia in mo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Work, Energy, and Simple Machi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1889280" y="2057400"/>
            <a:ext cx="5654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nked so that the resistance force of one machine becomes the effort force of the secon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Work, Energy, and Simple Machi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1171080" y="2057400"/>
            <a:ext cx="708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compound machi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676520" y="1905120"/>
            <a:ext cx="580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ange of frequencies that stimulate the retina of the ey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2757960" y="2057400"/>
            <a:ext cx="33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igh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1889280" y="1905120"/>
            <a:ext cx="557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ate at which visible light is emitted from a sour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1851480" y="2286000"/>
            <a:ext cx="542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uminous flux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889280" y="1905120"/>
            <a:ext cx="5730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ate at which light falls on a surface; measured in lux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2078640" y="1981080"/>
            <a:ext cx="493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lluminanc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600200" y="2057400"/>
            <a:ext cx="6416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used a prism to conclude the arrangement of colors from red to violet to be a spectru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2153880" y="1905120"/>
            <a:ext cx="52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Isaac Newt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Momentum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2057400" y="220968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omentu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1600200" y="2133720"/>
            <a:ext cx="6721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was the first to determine that light does travel with measurable spe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2230200" y="1905120"/>
            <a:ext cx="488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Ole Roem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905120" y="1981080"/>
            <a:ext cx="5715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which light is reflect ted back to the observer in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arallel beam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1615320" y="2057400"/>
            <a:ext cx="635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r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lec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>
            <a:off x="2057400" y="190512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lects light from its inner surfa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1853640" y="2057400"/>
            <a:ext cx="60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concave mirro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1889280" y="1905120"/>
            <a:ext cx="5654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tes that the ratio of the sine of the angle of incidence to the sine of the angle of refraction is a constant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2063160" y="2286000"/>
            <a:ext cx="498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nell’s La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1371600" y="1981080"/>
            <a:ext cx="6705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ccurs when the angle of refraction is larger than the angle of incid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096920" y="2133720"/>
            <a:ext cx="74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otal internal reflec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Moment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 flipV="1" rot="10800000">
            <a:off x="1447920" y="213336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duct of the average force and the time in which it ac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914400" y="1905120"/>
            <a:ext cx="7391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mage formed by parallel rays in a large, spherical mirror is a disk not a poi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1369080" y="2209680"/>
            <a:ext cx="672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pherical aberr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1398600" y="2057400"/>
            <a:ext cx="68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ricity caused by fric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929240" y="1905120"/>
            <a:ext cx="560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atic electric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1828800" y="1905120"/>
            <a:ext cx="542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lass, dry wood, most plastics, cloth, and dry air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2229480" y="198108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insulator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1600200" y="1600200"/>
            <a:ext cx="6781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gnitude of the force between charge qa and charge qb separated a distance d, is proportional to the magnitude of the charges and inversely proportional to the square of the dista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1609560" y="2133720"/>
            <a:ext cx="591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oulomb’s La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1828800" y="1905120"/>
            <a:ext cx="556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d to measure the current in any branch or part of a circui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2057400" y="205740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n ammet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Moment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2455920" y="228600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mpuls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4"/>
          <p:cNvSpPr/>
          <p:nvPr/>
        </p:nvSpPr>
        <p:spPr>
          <a:xfrm>
            <a:off x="1676520" y="1752480"/>
            <a:ext cx="64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so known as the solar cell, changes light energy to electricity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"/>
          <p:cNvSpPr/>
          <p:nvPr/>
        </p:nvSpPr>
        <p:spPr>
          <a:xfrm>
            <a:off x="1702080" y="2057400"/>
            <a:ext cx="643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photovoltaic cel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2" name="Picture 5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5"/>
          <p:cNvSpPr/>
          <p:nvPr/>
        </p:nvSpPr>
        <p:spPr>
          <a:xfrm>
            <a:off x="838080" y="19810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person created the no batteries flashligh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791280" y="2209680"/>
            <a:ext cx="745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Michael David Farada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Moment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2209680" y="1828800"/>
            <a:ext cx="5105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s stick together either prior to separating or after collid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Momentum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399680" y="2133720"/>
            <a:ext cx="689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n inelastic collis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Moment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1828800" y="1981080"/>
            <a:ext cx="6035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tes that the momentum of a system cannot be changed unless an outside force acts on it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Moment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2438280" y="1828800"/>
            <a:ext cx="464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law of Conservation of Momentu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LENOVO USER</cp:lastModifiedBy>
  <dcterms:modified xsi:type="dcterms:W3CDTF">2009-12-13T20:14:03Z</dcterms:modified>
  <cp:revision>22</cp:revision>
  <dc:subject/>
  <dc:title>Jeopardy</dc:title>
</cp:coreProperties>
</file>